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72AD-1D60-455C-AD0E-514FC6063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7A60-D9D1-4072-A0FC-530659C97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5406-F823-492E-8EF7-F209C1C2C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EB90-130E-44A7-92F3-4B80D0655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8F248-870D-4677-A6AC-F651AACD3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2C36A-FDD1-4ED3-A86A-641C8EB00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D91FC-8B00-4424-9549-E10960671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B4A46-9241-4090-9518-F017FC5C7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EB6B3-F24F-4A65-8A87-7F67AC49D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65633-EFD9-4067-87EC-B66EF86F4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E0757-E9BA-4D2B-A5A1-44B419416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6521-33A7-45D4-80AB-5032558D0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B1950-1CEE-407B-9272-A1AB19203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A7CE2-7F37-4891-95C5-60BBACBB1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6962E-D46F-41F0-B170-7595B221C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5CCA3-C506-42E8-AEA4-B30643757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388DA-0595-4835-9E59-DA384B74F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887F-B2D4-4095-BC26-265B6627C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3E09-9E44-49CD-AEF4-58F67C06D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D69D-2E9E-4216-8FB6-B7918D6E4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2ABE-BEB4-4E3C-A2DC-B82E99251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DB70-5B06-4F20-9FEF-0090A4139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404A-6C3A-4A8B-9326-E356336DF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556D-3536-4725-A838-55BE61EB7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CD899-1D1A-4DDF-963D-23951F3D735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66499-5401-4347-9AAD-E46033E2C3A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3716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Judah Alone -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A Study of Jeremiah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Quarter 7, Lesson 1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Book of Jeremia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ages 142-14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F9DED-F31E-4A9F-A805-CEF87C6FC833}" type="slidenum">
              <a:t>1</a:t>
            </a:fld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orld Setting For Jeremiah</a:t>
            </a:r>
            <a:br>
              <a:rPr sz="44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See map on page 184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ee nations struggling for world domination – Assyria, Egypt and Babyl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last strong king of Assyria died around 633 B.C. during Josiah’s reig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bylonians and Medes destroyed Nineveh (Assyria) around 612 B.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bopolassar, a Chaldean prince, rebelled and established Babylon as a world empi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ntually, Babylon emerged victorious and swept down on Judah in 605 B.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23E9-E4E0-4333-968B-B009588B3A19}" type="slidenum">
              <a:t>2</a:t>
            </a:fld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5341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Prophet Jeremia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riest, son of Hilkiah; of the priestly city of Anathoth (a few miles north of Jerusalem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gan prophesying during the 1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year of Josiah’s reign to the nation of Juda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prophesied about 40 years in Judah and spanned the reigns of five kin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prophesied about 10 more years in Egypt to a rebellious remna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emporary with Habakkuk and Zephania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DCD7-BBA1-401C-BA46-59534EAA0270}" type="slidenum">
              <a:t>3</a:t>
            </a:fld>
          </a:p>
        </p:txBody>
      </p:sp>
    </p:spTree>
  </p:cSld>
  <p:transition>
    <p:zoom dir="in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5341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Jeremiah’s Mis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root out, to pull down, to destroy, to throw down, to build, to plant” (1:10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declare irreversible judgment against the nation of Judah and other n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remind them of their si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beg repentance - knowing most would no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prophesy that Babylon will war against th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promise a return of the remnant and a new covena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D584-DC5D-411E-9805-F0A60D49175A}" type="slidenum">
              <a:t>4</a:t>
            </a:fld>
          </a:p>
        </p:txBody>
      </p:sp>
    </p:spTree>
  </p:cSld>
  <p:transition>
    <p:zoom dir="in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5341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Jeremiah’s Cal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Chapter 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d sanctified him before he was bo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ry young - not prepared for the tas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Lord touched his mouth – provided the wor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sions used to show him the spiritual messages for the kings and for the people of Juda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was promised protection from the peo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DA96-4D92-45F0-B8F1-8EE0BF5CD57D}" type="slidenum">
              <a:t>5</a:t>
            </a:fld>
          </a:p>
        </p:txBody>
      </p:sp>
    </p:spTree>
  </p:cSld>
  <p:transition>
    <p:zoom dir="in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5341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Jeremiah’s Messa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demnation of Judah and Jerusal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rael forsook God, as a bride her husband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2:1-3:5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udah’s conduct worse than Israel’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3:6-4:2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eat of overwhelming punishment if Judah does not repent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4:3-6:30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remiah spoke to the worshipers at the temple – the temple is not a good luck char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7:1-10:25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BEF5-334E-4B95-A8A3-D663FF4CF34F}" type="slidenum">
              <a:t>6</a:t>
            </a:fld>
          </a:p>
        </p:txBody>
      </p:sp>
    </p:spTree>
  </p:cSld>
  <p:transition>
    <p:zoom dir="in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5341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Jeremiah’s Messa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demnation of Judah and Jerusal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conspiracy against God and Jeremiah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11-12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marred girdle (or, dirty belt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13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ought and a prayer for mercy; God said “No” (14-15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remiah commanded not to marry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16-17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E4FC-B572-4C19-AFC7-9E18E94CD185}" type="slidenum">
              <a:t>7</a:t>
            </a:fld>
          </a:p>
        </p:txBody>
      </p:sp>
    </p:spTree>
  </p:cSld>
  <p:transition>
    <p:zoom dir="in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5341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Jeremiah’s Messa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demnation of Judah and Jerusal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otter’s vessel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18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broken vessel; Pashhur’s reaction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19-20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98B6-3C2D-42E6-914B-50C896CBC4E7}" type="slidenum">
              <a:t>8</a:t>
            </a:fld>
          </a:p>
        </p:txBody>
      </p:sp>
    </p:spTree>
  </p:cSld>
  <p:transition>
    <p:zoom dir="in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Rest of Jeremia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5341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rest of Jeremiah will be dealt with in its historical context, i.e., when subjects occur in our future less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focus of these lesson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oming captiv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exhorts Judah to accept punishment to avoid needless suffering and p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was rebuked, rejected, and persecuted for his mess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ople considered him a trai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also preached rest, deliverance and ho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4C02-2542-4684-852C-35B401C81161}" type="slidenum">
              <a:t>9</a:t>
            </a:fld>
          </a:p>
        </p:txBody>
      </p:sp>
    </p:spTree>
  </p:cSld>
  <p:transition>
    <p:zoom dir="in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7T17:28:16Z</dcterms:created>
  <dc:creator>Frank D Vines</dc:creator>
  <dc:description/>
  <dc:language>en-US</dc:language>
  <cp:lastModifiedBy>Frank D Vines</cp:lastModifiedBy>
  <dcterms:modified xsi:type="dcterms:W3CDTF">2006-03-05T14:47:55Z</dcterms:modified>
  <cp:revision>16</cp:revision>
  <dc:subject/>
  <dc:title>Slide 1</dc:title>
</cp:coreProperties>
</file>